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6640" y="511200"/>
            <a:ext cx="3397320" cy="25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-360" y="645768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5622480" y="645768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B47724-B8BC-4E27-A13A-2C7C5DAAB6B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C476B3F-57D3-4976-863E-D592D45771B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50495B9-42C0-43AF-A991-E05A4C3933A3}" type="slidenum">
              <a:rPr b="0" lang="da-DK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F596ED1-D69B-4863-ADEF-FC9BBE516121}" type="slidenum">
              <a:rPr b="0" lang="da-DK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F389E7A-7C26-4623-B756-B97D13AB3067}" type="slidenum">
              <a:rPr b="0" lang="da-DK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E3A5DD-BE2A-4B45-A073-47E44082F478}" type="slidenum">
              <a:rPr b="0" lang="da-DK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A4B304A-A36F-4A07-9207-36833CF7A56B}" type="slidenum">
              <a:rPr b="0" lang="da-DK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95CF3D3-2FDA-4DDD-919D-07E3FA21E81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5EA0DBE-FEE4-4FD2-9FB3-AF37F38B288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6C7EDA6-F34F-4361-8D5E-2912E1EA5C6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39350D-8ECC-4938-8FBD-D3813702E8C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9D42FFA-53E6-4603-9EC8-145CB7E1CA6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CE56B87-62D4-4D22-86B7-7AD484ED080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349551C-C623-4428-A613-A2C4B668B58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84DBB85-15F3-4432-88C2-BC5040F700E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08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64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08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64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FFC39-BAE7-43A5-AA15-99DC9E91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A12E-BB46-4565-9FED-A1B8AF2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BEB8-DA75-48FA-964D-263BAA6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68BA1-661C-4BB7-8656-72153CBF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186A6-F755-4928-8BC7-151BE0C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00000" y="260280"/>
            <a:ext cx="77724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B734-4F3F-4141-883F-44DE39C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15430-BF14-463C-BDBA-1CF46CF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8C62C-EC30-417F-BC21-992340E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339D-E269-4FA5-9B67-50364DE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1BCE-1038-416E-B133-CEF9B5E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669F9-41EC-4772-858E-7A477953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064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2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064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CCC15-070C-4EBF-A0F8-7498CE77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260280"/>
            <a:ext cx="77724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395280" y="907920"/>
            <a:ext cx="8305920" cy="73080"/>
            <a:chOff x="395280" y="907920"/>
            <a:chExt cx="8305920" cy="73080"/>
          </a:xfrm>
        </p:grpSpPr>
        <p:sp>
          <p:nvSpPr>
            <p:cNvPr id="2" name="Rectangle 5"/>
            <p:cNvSpPr/>
            <p:nvPr/>
          </p:nvSpPr>
          <p:spPr>
            <a:xfrm>
              <a:off x="6872400" y="907920"/>
              <a:ext cx="1828800" cy="73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395280" y="93852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79280" y="6381360"/>
            <a:ext cx="26640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olo Ferragina, Università di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D4A-0EDB-4263-A11A-38D8CECA4E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olo Ferragina, Università di Pis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280" y="1143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Comic Sans MS"/>
              </a:rPr>
              <a:t>Compressed Rank &amp; Select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Comic Sans MS"/>
              </a:rPr>
              <a:t>on general strings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aolo Fe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artimento di Informatica, Università di 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Standard representation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inary tree: each node has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inters to its left and righ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node tree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2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pointers or </a:t>
            </a: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2n lg 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pports finding </a:t>
            </a: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left chil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right chil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 node (in constant 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 each extra operation (eg. </a:t>
            </a: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par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subtree s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 we have to pay additional </a:t>
            </a: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n lg 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its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516720" y="148428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5796000" y="2133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164360" y="2133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5292720" y="292428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6659640" y="292428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7667640" y="292428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7236000" y="378936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5724360" y="378936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687708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615636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6"/>
          <p:cNvSpPr/>
          <p:nvPr/>
        </p:nvSpPr>
        <p:spPr>
          <a:xfrm>
            <a:off x="752472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565164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8"/>
          <p:cNvSpPr/>
          <p:nvPr/>
        </p:nvSpPr>
        <p:spPr>
          <a:xfrm>
            <a:off x="7020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8028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608472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1"/>
          <p:cNvSpPr/>
          <p:nvPr/>
        </p:nvSpPr>
        <p:spPr>
          <a:xfrm>
            <a:off x="7596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3"/>
          <p:cNvSpPr/>
          <p:nvPr/>
        </p:nvSpPr>
        <p:spPr>
          <a:xfrm flipH="1">
            <a:off x="6156360" y="1700280"/>
            <a:ext cx="50328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7093080" y="1700280"/>
            <a:ext cx="43164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25"/>
          <p:cNvSpPr/>
          <p:nvPr/>
        </p:nvSpPr>
        <p:spPr>
          <a:xfrm flipH="1">
            <a:off x="5651280" y="2349360"/>
            <a:ext cx="36036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27"/>
          <p:cNvSpPr/>
          <p:nvPr/>
        </p:nvSpPr>
        <p:spPr>
          <a:xfrm>
            <a:off x="5796000" y="3141720"/>
            <a:ext cx="28872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28"/>
          <p:cNvSpPr/>
          <p:nvPr/>
        </p:nvSpPr>
        <p:spPr>
          <a:xfrm flipH="1">
            <a:off x="7019640" y="2349360"/>
            <a:ext cx="36036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29"/>
          <p:cNvSpPr/>
          <p:nvPr/>
        </p:nvSpPr>
        <p:spPr>
          <a:xfrm>
            <a:off x="7740720" y="2349360"/>
            <a:ext cx="28728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30"/>
          <p:cNvSpPr/>
          <p:nvPr/>
        </p:nvSpPr>
        <p:spPr>
          <a:xfrm flipH="1">
            <a:off x="7596360" y="3141720"/>
            <a:ext cx="28872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615636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2"/>
          <p:cNvSpPr/>
          <p:nvPr/>
        </p:nvSpPr>
        <p:spPr>
          <a:xfrm>
            <a:off x="759636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3"/>
          <p:cNvSpPr/>
          <p:nvPr/>
        </p:nvSpPr>
        <p:spPr>
          <a:xfrm>
            <a:off x="723600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4"/>
          <p:cNvSpPr/>
          <p:nvPr/>
        </p:nvSpPr>
        <p:spPr>
          <a:xfrm>
            <a:off x="6084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35"/>
          <p:cNvSpPr/>
          <p:nvPr/>
        </p:nvSpPr>
        <p:spPr>
          <a:xfrm>
            <a:off x="572436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52927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7020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38"/>
          <p:cNvSpPr/>
          <p:nvPr/>
        </p:nvSpPr>
        <p:spPr>
          <a:xfrm>
            <a:off x="665964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39"/>
          <p:cNvSpPr/>
          <p:nvPr/>
        </p:nvSpPr>
        <p:spPr>
          <a:xfrm>
            <a:off x="8028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an we improve the space bound?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less th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binary trees 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 are enough to distinguish between any two different binary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represent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 binary tree us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660033"/>
                </a:solidFill>
                <a:latin typeface="Tahoma"/>
              </a:rPr>
              <a:t>Binary tree representation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binary tree on </a:t>
            </a: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nodes can be represented using </a:t>
            </a:r>
            <a:r>
              <a:rPr b="0" lang="en-CA" sz="2400" spc="-1" strike="noStrike">
                <a:solidFill>
                  <a:srgbClr val="0000ff"/>
                </a:solidFill>
                <a:latin typeface="Arial"/>
              </a:rPr>
              <a:t>2n+o(n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its to 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00"/>
                </a:solidFill>
                <a:latin typeface="Arial"/>
              </a:rPr>
              <a:t>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00"/>
                </a:solidFill>
                <a:latin typeface="Arial"/>
              </a:rPr>
              <a:t>left ch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00"/>
                </a:solidFill>
                <a:latin typeface="Arial"/>
              </a:rPr>
              <a:t>right child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constan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0033"/>
                </a:solidFill>
                <a:latin typeface="Tahoma"/>
              </a:rPr>
              <a:t>Heap-like notation for a binary tree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6588000" y="119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5867280" y="1844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7596360" y="321300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7308720" y="1844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Oval 8"/>
          <p:cNvSpPr/>
          <p:nvPr/>
        </p:nvSpPr>
        <p:spPr>
          <a:xfrm>
            <a:off x="5724360" y="3213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687708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536400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781200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6300720" y="249228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788508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730872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608472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5508720" y="386064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076720" y="321300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6659640" y="321300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9"/>
          <p:cNvSpPr/>
          <p:nvPr/>
        </p:nvSpPr>
        <p:spPr>
          <a:xfrm>
            <a:off x="7164360" y="321300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8101080" y="321300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1"/>
          <p:cNvSpPr/>
          <p:nvPr/>
        </p:nvSpPr>
        <p:spPr>
          <a:xfrm flipH="1">
            <a:off x="5940360" y="1268280"/>
            <a:ext cx="719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22"/>
          <p:cNvSpPr/>
          <p:nvPr/>
        </p:nvSpPr>
        <p:spPr>
          <a:xfrm flipH="1">
            <a:off x="5435640" y="1989000"/>
            <a:ext cx="5047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5435640" y="2637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6732720" y="1341360"/>
            <a:ext cx="7189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6948360" y="1989000"/>
            <a:ext cx="50328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7380360" y="1916280"/>
            <a:ext cx="50472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7"/>
          <p:cNvSpPr/>
          <p:nvPr/>
        </p:nvSpPr>
        <p:spPr>
          <a:xfrm flipH="1">
            <a:off x="7667280" y="2637000"/>
            <a:ext cx="2890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6012000" y="1989000"/>
            <a:ext cx="360360" cy="576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29"/>
          <p:cNvSpPr/>
          <p:nvPr/>
        </p:nvSpPr>
        <p:spPr>
          <a:xfrm flipH="1">
            <a:off x="5148360" y="2637000"/>
            <a:ext cx="28728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30"/>
          <p:cNvSpPr/>
          <p:nvPr/>
        </p:nvSpPr>
        <p:spPr>
          <a:xfrm flipH="1">
            <a:off x="5580000" y="3357720"/>
            <a:ext cx="2872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31"/>
          <p:cNvSpPr/>
          <p:nvPr/>
        </p:nvSpPr>
        <p:spPr>
          <a:xfrm>
            <a:off x="5867280" y="3357720"/>
            <a:ext cx="2890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32"/>
          <p:cNvSpPr/>
          <p:nvPr/>
        </p:nvSpPr>
        <p:spPr>
          <a:xfrm flipH="1">
            <a:off x="6732720" y="2637000"/>
            <a:ext cx="28728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33"/>
          <p:cNvSpPr/>
          <p:nvPr/>
        </p:nvSpPr>
        <p:spPr>
          <a:xfrm>
            <a:off x="7020000" y="2637000"/>
            <a:ext cx="28872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34"/>
          <p:cNvSpPr/>
          <p:nvPr/>
        </p:nvSpPr>
        <p:spPr>
          <a:xfrm>
            <a:off x="7956720" y="2637000"/>
            <a:ext cx="21564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35"/>
          <p:cNvSpPr/>
          <p:nvPr/>
        </p:nvSpPr>
        <p:spPr>
          <a:xfrm flipH="1">
            <a:off x="7380360" y="3357720"/>
            <a:ext cx="2872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36"/>
          <p:cNvSpPr/>
          <p:nvPr/>
        </p:nvSpPr>
        <p:spPr>
          <a:xfrm>
            <a:off x="7667640" y="3357720"/>
            <a:ext cx="2890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37"/>
          <p:cNvSpPr/>
          <p:nvPr/>
        </p:nvSpPr>
        <p:spPr>
          <a:xfrm>
            <a:off x="746064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38"/>
          <p:cNvSpPr/>
          <p:nvPr/>
        </p:nvSpPr>
        <p:spPr>
          <a:xfrm>
            <a:off x="666864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40"/>
          <p:cNvSpPr/>
          <p:nvPr/>
        </p:nvSpPr>
        <p:spPr>
          <a:xfrm>
            <a:off x="508608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1"/>
          <p:cNvSpPr/>
          <p:nvPr/>
        </p:nvSpPr>
        <p:spPr>
          <a:xfrm>
            <a:off x="796572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2"/>
          <p:cNvSpPr/>
          <p:nvPr/>
        </p:nvSpPr>
        <p:spPr>
          <a:xfrm>
            <a:off x="587664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43"/>
          <p:cNvSpPr/>
          <p:nvPr/>
        </p:nvSpPr>
        <p:spPr>
          <a:xfrm>
            <a:off x="746064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558900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45"/>
          <p:cNvSpPr/>
          <p:nvPr/>
        </p:nvSpPr>
        <p:spPr>
          <a:xfrm>
            <a:off x="6309720" y="10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6"/>
          <p:cNvSpPr/>
          <p:nvPr/>
        </p:nvSpPr>
        <p:spPr>
          <a:xfrm>
            <a:off x="602100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7"/>
          <p:cNvSpPr/>
          <p:nvPr/>
        </p:nvSpPr>
        <p:spPr>
          <a:xfrm>
            <a:off x="544464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48"/>
          <p:cNvSpPr/>
          <p:nvPr/>
        </p:nvSpPr>
        <p:spPr>
          <a:xfrm>
            <a:off x="782100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724500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50"/>
          <p:cNvSpPr/>
          <p:nvPr/>
        </p:nvSpPr>
        <p:spPr>
          <a:xfrm>
            <a:off x="724500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51"/>
          <p:cNvSpPr/>
          <p:nvPr/>
        </p:nvSpPr>
        <p:spPr>
          <a:xfrm>
            <a:off x="825300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52"/>
          <p:cNvSpPr/>
          <p:nvPr/>
        </p:nvSpPr>
        <p:spPr>
          <a:xfrm>
            <a:off x="638136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53"/>
          <p:cNvSpPr/>
          <p:nvPr/>
        </p:nvSpPr>
        <p:spPr>
          <a:xfrm>
            <a:off x="479700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54"/>
          <p:cNvSpPr/>
          <p:nvPr/>
        </p:nvSpPr>
        <p:spPr>
          <a:xfrm>
            <a:off x="638136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55"/>
          <p:cNvSpPr/>
          <p:nvPr/>
        </p:nvSpPr>
        <p:spPr>
          <a:xfrm>
            <a:off x="679320" y="11970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dd external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56"/>
          <p:cNvSpPr/>
          <p:nvPr/>
        </p:nvSpPr>
        <p:spPr>
          <a:xfrm>
            <a:off x="734400" y="198900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abel internal nodes with a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nd external nodes with a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669600" y="314172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rite the labels in level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840960" y="386064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 1 1 1 0 1 1 0 1 0 0 1 0 0 0 0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59"/>
          <p:cNvSpPr/>
          <p:nvPr/>
        </p:nvSpPr>
        <p:spPr>
          <a:xfrm>
            <a:off x="797760" y="465300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ne can reconstruct the tree from this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60"/>
          <p:cNvSpPr/>
          <p:nvPr/>
        </p:nvSpPr>
        <p:spPr>
          <a:xfrm>
            <a:off x="879840" y="537372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node binary tree can be represented in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2n+1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b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61"/>
          <p:cNvSpPr/>
          <p:nvPr/>
        </p:nvSpPr>
        <p:spPr>
          <a:xfrm>
            <a:off x="715680" y="609300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hat about the opera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0033"/>
                </a:solidFill>
                <a:latin typeface="Tahoma"/>
              </a:rPr>
              <a:t>Heap-like notation for a binary tree</a:t>
            </a:r>
            <a:endParaRPr b="0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6588000" y="119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5867280" y="1844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7596360" y="321300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7308720" y="1844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5724360" y="3213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687708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536400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7812000" y="2492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6300720" y="249228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788508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730872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6084720" y="386064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5508720" y="386064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5076720" y="321300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6659640" y="321300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7164360" y="3213000"/>
            <a:ext cx="19224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8101080" y="3213000"/>
            <a:ext cx="19188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1"/>
          <p:cNvSpPr/>
          <p:nvPr/>
        </p:nvSpPr>
        <p:spPr>
          <a:xfrm flipH="1">
            <a:off x="5940360" y="1268280"/>
            <a:ext cx="719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5435640" y="1989000"/>
            <a:ext cx="5047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5435640" y="2637000"/>
            <a:ext cx="431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6732720" y="1341360"/>
            <a:ext cx="7189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6948360" y="1989000"/>
            <a:ext cx="50328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26"/>
          <p:cNvSpPr/>
          <p:nvPr/>
        </p:nvSpPr>
        <p:spPr>
          <a:xfrm>
            <a:off x="7380360" y="1916280"/>
            <a:ext cx="50472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27"/>
          <p:cNvSpPr/>
          <p:nvPr/>
        </p:nvSpPr>
        <p:spPr>
          <a:xfrm flipH="1">
            <a:off x="7667280" y="2637000"/>
            <a:ext cx="2890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6012000" y="1989000"/>
            <a:ext cx="360360" cy="576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29"/>
          <p:cNvSpPr/>
          <p:nvPr/>
        </p:nvSpPr>
        <p:spPr>
          <a:xfrm flipH="1">
            <a:off x="5148360" y="2637000"/>
            <a:ext cx="28728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30"/>
          <p:cNvSpPr/>
          <p:nvPr/>
        </p:nvSpPr>
        <p:spPr>
          <a:xfrm flipH="1">
            <a:off x="5580000" y="3357720"/>
            <a:ext cx="2872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31"/>
          <p:cNvSpPr/>
          <p:nvPr/>
        </p:nvSpPr>
        <p:spPr>
          <a:xfrm>
            <a:off x="5867280" y="3357720"/>
            <a:ext cx="2890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32"/>
          <p:cNvSpPr/>
          <p:nvPr/>
        </p:nvSpPr>
        <p:spPr>
          <a:xfrm flipH="1">
            <a:off x="6732720" y="2637000"/>
            <a:ext cx="28728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33"/>
          <p:cNvSpPr/>
          <p:nvPr/>
        </p:nvSpPr>
        <p:spPr>
          <a:xfrm>
            <a:off x="7020000" y="2637000"/>
            <a:ext cx="288720" cy="72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Line 34"/>
          <p:cNvSpPr/>
          <p:nvPr/>
        </p:nvSpPr>
        <p:spPr>
          <a:xfrm>
            <a:off x="7956720" y="2637000"/>
            <a:ext cx="21564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5"/>
          <p:cNvSpPr/>
          <p:nvPr/>
        </p:nvSpPr>
        <p:spPr>
          <a:xfrm flipH="1">
            <a:off x="7380360" y="3357720"/>
            <a:ext cx="2872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6"/>
          <p:cNvSpPr/>
          <p:nvPr/>
        </p:nvSpPr>
        <p:spPr>
          <a:xfrm>
            <a:off x="7667640" y="3357720"/>
            <a:ext cx="289080" cy="57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57"/>
          <p:cNvSpPr/>
          <p:nvPr/>
        </p:nvSpPr>
        <p:spPr>
          <a:xfrm>
            <a:off x="1736280" y="558972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  1  1  1  0  1  1  0  1  0   0   1   0  0   0   0  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62"/>
          <p:cNvSpPr/>
          <p:nvPr/>
        </p:nvSpPr>
        <p:spPr>
          <a:xfrm>
            <a:off x="1645560" y="602136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  2  3  4  5  6  7  8  9 10 11 12 13 14 15 16 17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63"/>
          <p:cNvSpPr/>
          <p:nvPr/>
        </p:nvSpPr>
        <p:spPr>
          <a:xfrm>
            <a:off x="479700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64"/>
          <p:cNvSpPr/>
          <p:nvPr/>
        </p:nvSpPr>
        <p:spPr>
          <a:xfrm>
            <a:off x="602100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 Box 65"/>
          <p:cNvSpPr/>
          <p:nvPr/>
        </p:nvSpPr>
        <p:spPr>
          <a:xfrm>
            <a:off x="796572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66"/>
          <p:cNvSpPr/>
          <p:nvPr/>
        </p:nvSpPr>
        <p:spPr>
          <a:xfrm>
            <a:off x="666864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67"/>
          <p:cNvSpPr/>
          <p:nvPr/>
        </p:nvSpPr>
        <p:spPr>
          <a:xfrm>
            <a:off x="508608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68"/>
          <p:cNvSpPr/>
          <p:nvPr/>
        </p:nvSpPr>
        <p:spPr>
          <a:xfrm>
            <a:off x="746064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69"/>
          <p:cNvSpPr/>
          <p:nvPr/>
        </p:nvSpPr>
        <p:spPr>
          <a:xfrm>
            <a:off x="558900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70"/>
          <p:cNvSpPr/>
          <p:nvPr/>
        </p:nvSpPr>
        <p:spPr>
          <a:xfrm>
            <a:off x="6309720" y="10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71"/>
          <p:cNvSpPr/>
          <p:nvPr/>
        </p:nvSpPr>
        <p:spPr>
          <a:xfrm>
            <a:off x="587664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72"/>
          <p:cNvSpPr/>
          <p:nvPr/>
        </p:nvSpPr>
        <p:spPr>
          <a:xfrm>
            <a:off x="775728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73"/>
          <p:cNvSpPr/>
          <p:nvPr/>
        </p:nvSpPr>
        <p:spPr>
          <a:xfrm>
            <a:off x="718092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74"/>
          <p:cNvSpPr/>
          <p:nvPr/>
        </p:nvSpPr>
        <p:spPr>
          <a:xfrm>
            <a:off x="595692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75"/>
          <p:cNvSpPr/>
          <p:nvPr/>
        </p:nvSpPr>
        <p:spPr>
          <a:xfrm>
            <a:off x="5380560" y="4076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6"/>
          <p:cNvSpPr/>
          <p:nvPr/>
        </p:nvSpPr>
        <p:spPr>
          <a:xfrm>
            <a:off x="8260560" y="299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77"/>
          <p:cNvSpPr/>
          <p:nvPr/>
        </p:nvSpPr>
        <p:spPr>
          <a:xfrm>
            <a:off x="7325280" y="29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78"/>
          <p:cNvSpPr/>
          <p:nvPr/>
        </p:nvSpPr>
        <p:spPr>
          <a:xfrm>
            <a:off x="6820560" y="299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79"/>
          <p:cNvSpPr/>
          <p:nvPr/>
        </p:nvSpPr>
        <p:spPr>
          <a:xfrm>
            <a:off x="6244200" y="2997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80"/>
          <p:cNvSpPr/>
          <p:nvPr/>
        </p:nvSpPr>
        <p:spPr>
          <a:xfrm>
            <a:off x="6525720" y="14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81"/>
          <p:cNvSpPr/>
          <p:nvPr/>
        </p:nvSpPr>
        <p:spPr>
          <a:xfrm>
            <a:off x="753372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82"/>
          <p:cNvSpPr/>
          <p:nvPr/>
        </p:nvSpPr>
        <p:spPr>
          <a:xfrm>
            <a:off x="573372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3"/>
          <p:cNvSpPr/>
          <p:nvPr/>
        </p:nvSpPr>
        <p:spPr>
          <a:xfrm>
            <a:off x="782100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4"/>
          <p:cNvSpPr/>
          <p:nvPr/>
        </p:nvSpPr>
        <p:spPr>
          <a:xfrm>
            <a:off x="688608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85"/>
          <p:cNvSpPr/>
          <p:nvPr/>
        </p:nvSpPr>
        <p:spPr>
          <a:xfrm>
            <a:off x="5301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6"/>
          <p:cNvSpPr/>
          <p:nvPr/>
        </p:nvSpPr>
        <p:spPr>
          <a:xfrm>
            <a:off x="7318080" y="20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87"/>
          <p:cNvSpPr/>
          <p:nvPr/>
        </p:nvSpPr>
        <p:spPr>
          <a:xfrm>
            <a:off x="5805000" y="198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88"/>
          <p:cNvSpPr/>
          <p:nvPr/>
        </p:nvSpPr>
        <p:spPr>
          <a:xfrm>
            <a:off x="1830240" y="50846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1  2  3  4      5  6      7           8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89"/>
          <p:cNvSpPr/>
          <p:nvPr/>
        </p:nvSpPr>
        <p:spPr>
          <a:xfrm>
            <a:off x="822960" y="405936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arent(</a:t>
            </a: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On red (</a:t>
            </a:r>
            <a:r>
              <a:rPr b="0" lang="en-CA" sz="1800" spc="-1" strike="noStrike">
                <a:solidFill>
                  <a:srgbClr val="006600"/>
                </a:solidFill>
                <a:latin typeface="OpenSymbol"/>
              </a:rPr>
              <a:t>⌊</a:t>
            </a: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x/2</a:t>
            </a:r>
            <a:r>
              <a:rPr b="0" lang="en-CA" sz="1800" spc="-1" strike="noStrike">
                <a:solidFill>
                  <a:srgbClr val="006600"/>
                </a:solidFill>
                <a:latin typeface="OpenSymbol"/>
              </a:rPr>
              <a:t>⌋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90"/>
          <p:cNvSpPr/>
          <p:nvPr/>
        </p:nvSpPr>
        <p:spPr>
          <a:xfrm>
            <a:off x="789120" y="263700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eft child(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CA" sz="1800" spc="-1" strike="noStrike">
                <a:solidFill>
                  <a:srgbClr val="339933"/>
                </a:solidFill>
                <a:latin typeface="Tahoma"/>
              </a:rPr>
              <a:t>On green(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2x</a:t>
            </a:r>
            <a:r>
              <a:rPr b="0" lang="en-CA" sz="1800" spc="-1" strike="noStrike">
                <a:solidFill>
                  <a:srgbClr val="339933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91"/>
          <p:cNvSpPr/>
          <p:nvPr/>
        </p:nvSpPr>
        <p:spPr>
          <a:xfrm>
            <a:off x="794160" y="3357720"/>
            <a:ext cx="34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ight child(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CA" sz="1800" spc="-1" strike="noStrike">
                <a:solidFill>
                  <a:srgbClr val="339933"/>
                </a:solidFill>
                <a:latin typeface="Tahoma"/>
              </a:rPr>
              <a:t>On green(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2x+1</a:t>
            </a:r>
            <a:r>
              <a:rPr b="0" lang="en-CA" sz="1800" spc="-1" strike="noStrike">
                <a:solidFill>
                  <a:srgbClr val="339933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92"/>
          <p:cNvSpPr/>
          <p:nvPr/>
        </p:nvSpPr>
        <p:spPr>
          <a:xfrm>
            <a:off x="821160" y="1343160"/>
            <a:ext cx="3611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: #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’s up to </a:t>
            </a: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x         </a:t>
            </a:r>
            <a:r>
              <a:rPr b="0" lang="en-CA" sz="1800" spc="-1" strike="noStrike">
                <a:solidFill>
                  <a:srgbClr val="5c37fb"/>
                </a:solidFill>
                <a:latin typeface="Tahoma"/>
              </a:rPr>
              <a:t>(Ran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0066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: position of </a:t>
            </a:r>
            <a:r>
              <a:rPr b="0" lang="en-CA" sz="18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lang="en-CA" sz="1800" spc="-1" strike="noStrike">
                <a:solidFill>
                  <a:srgbClr val="0000ff"/>
                </a:solidFill>
                <a:latin typeface="Tahoma"/>
              </a:rPr>
              <a:t>1   </a:t>
            </a:r>
            <a:r>
              <a:rPr b="0" lang="en-CA" sz="1800" spc="-1" strike="noStrike">
                <a:solidFill>
                  <a:srgbClr val="5c37fb"/>
                </a:solidFill>
                <a:latin typeface="Tahoma"/>
              </a:rPr>
              <a:t>(Sel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Generalised Rank and Select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20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Rank(c,i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#c in L[1,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Select(c,i)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position of the i-th c in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116000" y="2708280"/>
            <a:ext cx="6048360" cy="57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 = a b a a a c b c d a b e c d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980520" y="3200760"/>
            <a:ext cx="2433240" cy="696600"/>
            <a:chOff x="3980520" y="3200760"/>
            <a:chExt cx="2433240" cy="696600"/>
          </a:xfrm>
        </p:grpSpPr>
        <p:sp>
          <p:nvSpPr>
            <p:cNvPr id="109" name="Text Box 6"/>
            <p:cNvSpPr/>
            <p:nvPr/>
          </p:nvSpPr>
          <p:spPr>
            <a:xfrm>
              <a:off x="4352400" y="34984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a50021"/>
                  </a:solidFill>
                  <a:latin typeface="Lucida Sans"/>
                </a:rPr>
                <a:t>Rank( a , 7 ) </a:t>
              </a:r>
              <a:r>
                <a:rPr b="1" lang="it-IT" sz="2000" spc="-1" strike="noStrike">
                  <a:solidFill>
                    <a:srgbClr val="000099"/>
                  </a:solidFill>
                  <a:latin typeface="Lucida Sans"/>
                </a:rPr>
                <a:t>= 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 rot="16410600">
              <a:off x="3923280" y="3282840"/>
              <a:ext cx="504360" cy="360360"/>
            </a:xfrm>
            <a:custGeom>
              <a:avLst/>
              <a:gdLst>
                <a:gd name="textAreaLeft" fmla="*/ 290160 w 504360"/>
                <a:gd name="textAreaRight" fmla="*/ 425160 w 504360"/>
                <a:gd name="textAreaTop" fmla="*/ 63360 h 360360"/>
                <a:gd name="textAreaBottom" fmla="*/ 13968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427" y="0"/>
                  </a:lnTo>
                  <a:lnTo>
                    <a:pt x="12427" y="3806"/>
                  </a:lnTo>
                  <a:cubicBezTo>
                    <a:pt x="5564" y="3806"/>
                    <a:pt x="0" y="7545"/>
                    <a:pt x="0" y="12158"/>
                  </a:cubicBezTo>
                  <a:lnTo>
                    <a:pt x="0" y="21600"/>
                  </a:lnTo>
                  <a:lnTo>
                    <a:pt x="4647" y="21600"/>
                  </a:lnTo>
                  <a:lnTo>
                    <a:pt x="4647" y="12158"/>
                  </a:lnTo>
                  <a:cubicBezTo>
                    <a:pt x="4647" y="10056"/>
                    <a:pt x="8130" y="8352"/>
                    <a:pt x="12427" y="8352"/>
                  </a:cubicBezTo>
                  <a:lnTo>
                    <a:pt x="12427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2828160" y="3200760"/>
            <a:ext cx="2545920" cy="696600"/>
            <a:chOff x="2828160" y="3200760"/>
            <a:chExt cx="2545920" cy="696600"/>
          </a:xfrm>
        </p:grpSpPr>
        <p:sp>
          <p:nvSpPr>
            <p:cNvPr id="112" name="Text Box 9"/>
            <p:cNvSpPr/>
            <p:nvPr/>
          </p:nvSpPr>
          <p:spPr>
            <a:xfrm>
              <a:off x="3200040" y="349848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a50021"/>
                  </a:solidFill>
                  <a:latin typeface="Lucida Sans"/>
                </a:rPr>
                <a:t>Select( a , 2 ) </a:t>
              </a:r>
              <a:r>
                <a:rPr b="1" lang="it-IT" sz="2000" spc="-1" strike="noStrike">
                  <a:solidFill>
                    <a:srgbClr val="000099"/>
                  </a:solidFill>
                  <a:latin typeface="Lucida Sans"/>
                </a:rPr>
                <a:t>= 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 rot="16410600">
              <a:off x="2770920" y="3282840"/>
              <a:ext cx="504360" cy="360360"/>
            </a:xfrm>
            <a:custGeom>
              <a:avLst/>
              <a:gdLst>
                <a:gd name="textAreaLeft" fmla="*/ 290160 w 504360"/>
                <a:gd name="textAreaRight" fmla="*/ 425160 w 504360"/>
                <a:gd name="textAreaTop" fmla="*/ 63360 h 360360"/>
                <a:gd name="textAreaBottom" fmla="*/ 13968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427" y="0"/>
                  </a:lnTo>
                  <a:lnTo>
                    <a:pt x="12427" y="3806"/>
                  </a:lnTo>
                  <a:cubicBezTo>
                    <a:pt x="5564" y="3806"/>
                    <a:pt x="0" y="7545"/>
                    <a:pt x="0" y="12158"/>
                  </a:cubicBezTo>
                  <a:lnTo>
                    <a:pt x="0" y="21600"/>
                  </a:lnTo>
                  <a:lnTo>
                    <a:pt x="4647" y="21600"/>
                  </a:lnTo>
                  <a:lnTo>
                    <a:pt x="4647" y="12158"/>
                  </a:lnTo>
                  <a:cubicBezTo>
                    <a:pt x="4647" y="10056"/>
                    <a:pt x="8130" y="8352"/>
                    <a:pt x="12427" y="8352"/>
                  </a:cubicBezTo>
                  <a:lnTo>
                    <a:pt x="12427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Generalised Rank and Select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84360" y="1447200"/>
            <a:ext cx="799128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small (i.e. constant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uild </a:t>
            </a: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binary Rank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ata structure for each symbol of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1500"/>
              </a:spcBef>
              <a:buClr>
                <a:srgbClr val="660033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nk takes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 O(1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me and small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3514320"/>
            <a:ext cx="7777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large  (</a:t>
            </a: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words </a:t>
            </a:r>
            <a:r>
              <a:rPr b="0" lang="it-IT" sz="2400" spc="-1" strike="noStrike">
                <a:solidFill>
                  <a:srgbClr val="d60093"/>
                </a:solidFill>
                <a:latin typeface="Tahoma"/>
              </a:rPr>
              <a:t>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ed a smarter solution: 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Wavelet Tree</a:t>
            </a: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ta 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692360" y="4581360"/>
            <a:ext cx="5833800" cy="144000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lgorithmic red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&gt;&gt;  Reduce Rank&amp;Select over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arbitrar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.. to Rank&amp;Select over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binar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33"/>
                </a:solidFill>
                <a:latin typeface="Tahoma"/>
              </a:rPr>
              <a:t>The Wavelet Tre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306440" y="1989000"/>
            <a:ext cx="5159520" cy="3749760"/>
            <a:chOff x="1306440" y="1989000"/>
            <a:chExt cx="5159520" cy="3749760"/>
          </a:xfrm>
        </p:grpSpPr>
        <p:sp>
          <p:nvSpPr>
            <p:cNvPr id="122" name="Line 4"/>
            <p:cNvSpPr/>
            <p:nvPr/>
          </p:nvSpPr>
          <p:spPr>
            <a:xfrm>
              <a:off x="3706920" y="1989000"/>
              <a:ext cx="1439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2265480" y="1989000"/>
              <a:ext cx="14428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5146560" y="3068640"/>
              <a:ext cx="1079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H="1">
              <a:off x="4065480" y="3068640"/>
              <a:ext cx="10828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4067280" y="4148280"/>
              <a:ext cx="7207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3344400" y="414828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266920" y="3068640"/>
              <a:ext cx="720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1544760" y="3068640"/>
              <a:ext cx="72360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2"/>
            <p:cNvSpPr/>
            <p:nvPr/>
          </p:nvSpPr>
          <p:spPr>
            <a:xfrm>
              <a:off x="130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>
              <a:off x="274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3137040" y="5318280"/>
              <a:ext cx="47916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>
              <a:off x="4545000" y="5318280"/>
              <a:ext cx="47952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>
              <a:off x="598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AutoShape 17"/>
          <p:cNvSpPr/>
          <p:nvPr/>
        </p:nvSpPr>
        <p:spPr>
          <a:xfrm>
            <a:off x="2627280" y="1197000"/>
            <a:ext cx="2220840" cy="779400"/>
          </a:xfrm>
          <a:prstGeom prst="roundRect">
            <a:avLst>
              <a:gd name="adj" fmla="val 23060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6299280" y="1917720"/>
            <a:ext cx="2362320" cy="3887640"/>
            <a:chOff x="6299280" y="1917720"/>
            <a:chExt cx="2362320" cy="3887640"/>
          </a:xfrm>
        </p:grpSpPr>
        <p:sp>
          <p:nvSpPr>
            <p:cNvPr id="137" name="AutoShape 19"/>
            <p:cNvSpPr/>
            <p:nvPr/>
          </p:nvSpPr>
          <p:spPr>
            <a:xfrm>
              <a:off x="6299280" y="1917720"/>
              <a:ext cx="792000" cy="3887640"/>
            </a:xfrm>
            <a:custGeom>
              <a:avLst/>
              <a:gdLst>
                <a:gd name="textAreaLeft" fmla="*/ 0 w 792000"/>
                <a:gd name="textAreaRight" fmla="*/ 285840 w 792000"/>
                <a:gd name="textAreaTop" fmla="*/ 101160 h 3887640"/>
                <a:gd name="textAreaBottom" fmla="*/ 3786480 h 38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6926400" y="3458520"/>
              <a:ext cx="173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(Alphabetic ?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33"/>
                </a:solidFill>
                <a:latin typeface="Tahoma"/>
              </a:rPr>
              <a:t>The Wavelet Tre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306440" y="1989000"/>
            <a:ext cx="5159520" cy="3749760"/>
            <a:chOff x="1306440" y="1989000"/>
            <a:chExt cx="5159520" cy="3749760"/>
          </a:xfrm>
        </p:grpSpPr>
        <p:sp>
          <p:nvSpPr>
            <p:cNvPr id="142" name="Line 4"/>
            <p:cNvSpPr/>
            <p:nvPr/>
          </p:nvSpPr>
          <p:spPr>
            <a:xfrm>
              <a:off x="3706920" y="1989000"/>
              <a:ext cx="1439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 flipH="1">
              <a:off x="2265480" y="1989000"/>
              <a:ext cx="14428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5146560" y="3068640"/>
              <a:ext cx="1079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 flipH="1">
              <a:off x="4065480" y="3068640"/>
              <a:ext cx="10828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4067280" y="4148280"/>
              <a:ext cx="7207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3344400" y="414828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2266920" y="3068640"/>
              <a:ext cx="720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1544760" y="3068640"/>
              <a:ext cx="72360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AutoShape 12"/>
            <p:cNvSpPr/>
            <p:nvPr/>
          </p:nvSpPr>
          <p:spPr>
            <a:xfrm>
              <a:off x="130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AutoShape 13"/>
            <p:cNvSpPr/>
            <p:nvPr/>
          </p:nvSpPr>
          <p:spPr>
            <a:xfrm>
              <a:off x="274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AutoShape 14"/>
            <p:cNvSpPr/>
            <p:nvPr/>
          </p:nvSpPr>
          <p:spPr>
            <a:xfrm>
              <a:off x="3137040" y="5318280"/>
              <a:ext cx="47916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AutoShape 15"/>
            <p:cNvSpPr/>
            <p:nvPr/>
          </p:nvSpPr>
          <p:spPr>
            <a:xfrm>
              <a:off x="4545000" y="5318280"/>
              <a:ext cx="47952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AutoShape 16"/>
            <p:cNvSpPr/>
            <p:nvPr/>
          </p:nvSpPr>
          <p:spPr>
            <a:xfrm>
              <a:off x="5986440" y="4208400"/>
              <a:ext cx="47952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AutoShape 17"/>
          <p:cNvSpPr/>
          <p:nvPr/>
        </p:nvSpPr>
        <p:spPr>
          <a:xfrm>
            <a:off x="2627280" y="1197000"/>
            <a:ext cx="2220840" cy="779400"/>
          </a:xfrm>
          <a:prstGeom prst="roundRect">
            <a:avLst>
              <a:gd name="adj" fmla="val 23060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684360" y="2349360"/>
            <a:ext cx="143964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acaa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19"/>
          <p:cNvSpPr/>
          <p:nvPr/>
        </p:nvSpPr>
        <p:spPr>
          <a:xfrm>
            <a:off x="5241960" y="2349360"/>
            <a:ext cx="10810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d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3276720" y="3284640"/>
            <a:ext cx="9604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4356000" y="5397480"/>
            <a:ext cx="1434600" cy="1200240"/>
            <a:chOff x="4356000" y="5397480"/>
            <a:chExt cx="1434600" cy="1200240"/>
          </a:xfrm>
        </p:grpSpPr>
        <p:sp>
          <p:nvSpPr>
            <p:cNvPr id="160" name="AutoShape 22"/>
            <p:cNvSpPr/>
            <p:nvPr/>
          </p:nvSpPr>
          <p:spPr>
            <a:xfrm>
              <a:off x="4356000" y="5877000"/>
              <a:ext cx="960480" cy="720720"/>
            </a:xfrm>
            <a:prstGeom prst="roundRect">
              <a:avLst>
                <a:gd name="adj" fmla="val 24889"/>
              </a:avLst>
            </a:prstGeom>
            <a:noFill/>
            <a:ln w="3600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>
              <a:off x="5367600" y="53974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cc0066"/>
                  </a:solidFill>
                  <a:latin typeface="Tahom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971640" y="4221000"/>
            <a:ext cx="1567440" cy="1200240"/>
            <a:chOff x="971640" y="4221000"/>
            <a:chExt cx="1567440" cy="1200240"/>
          </a:xfrm>
        </p:grpSpPr>
        <p:sp>
          <p:nvSpPr>
            <p:cNvPr id="163" name="AutoShape 25"/>
            <p:cNvSpPr/>
            <p:nvPr/>
          </p:nvSpPr>
          <p:spPr>
            <a:xfrm>
              <a:off x="971640" y="4700520"/>
              <a:ext cx="1089720" cy="720720"/>
            </a:xfrm>
            <a:prstGeom prst="roundRect">
              <a:avLst>
                <a:gd name="adj" fmla="val 24889"/>
              </a:avLst>
            </a:prstGeom>
            <a:noFill/>
            <a:ln w="3600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26"/>
            <p:cNvSpPr/>
            <p:nvPr/>
          </p:nvSpPr>
          <p:spPr>
            <a:xfrm>
              <a:off x="2116080" y="422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cc0066"/>
                  </a:solidFill>
                  <a:latin typeface="Tahom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Group 27"/>
          <p:cNvGrpSpPr/>
          <p:nvPr/>
        </p:nvGrpSpPr>
        <p:grpSpPr>
          <a:xfrm>
            <a:off x="2843280" y="5373720"/>
            <a:ext cx="1434240" cy="1200240"/>
            <a:chOff x="2843280" y="5373720"/>
            <a:chExt cx="1434240" cy="1200240"/>
          </a:xfrm>
        </p:grpSpPr>
        <p:sp>
          <p:nvSpPr>
            <p:cNvPr id="166" name="AutoShape 28"/>
            <p:cNvSpPr/>
            <p:nvPr/>
          </p:nvSpPr>
          <p:spPr>
            <a:xfrm>
              <a:off x="2843280" y="5853240"/>
              <a:ext cx="960120" cy="720720"/>
            </a:xfrm>
            <a:prstGeom prst="roundRect">
              <a:avLst>
                <a:gd name="adj" fmla="val 24889"/>
              </a:avLst>
            </a:prstGeom>
            <a:noFill/>
            <a:ln w="3600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29"/>
            <p:cNvSpPr/>
            <p:nvPr/>
          </p:nvSpPr>
          <p:spPr>
            <a:xfrm>
              <a:off x="3854520" y="537372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cc0066"/>
                  </a:solidFill>
                  <a:latin typeface="Tahom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" name="Group 21"/>
          <p:cNvGrpSpPr/>
          <p:nvPr/>
        </p:nvGrpSpPr>
        <p:grpSpPr>
          <a:xfrm>
            <a:off x="6353280" y="4292640"/>
            <a:ext cx="1434240" cy="1200240"/>
            <a:chOff x="6353280" y="4292640"/>
            <a:chExt cx="1434240" cy="1200240"/>
          </a:xfrm>
        </p:grpSpPr>
        <p:sp>
          <p:nvSpPr>
            <p:cNvPr id="169" name="AutoShape 22"/>
            <p:cNvSpPr/>
            <p:nvPr/>
          </p:nvSpPr>
          <p:spPr>
            <a:xfrm>
              <a:off x="6353280" y="4772160"/>
              <a:ext cx="960120" cy="720720"/>
            </a:xfrm>
            <a:prstGeom prst="roundRect">
              <a:avLst>
                <a:gd name="adj" fmla="val 24889"/>
              </a:avLst>
            </a:prstGeom>
            <a:noFill/>
            <a:ln w="3600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7364520" y="429264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cc0066"/>
                  </a:solidFill>
                  <a:latin typeface="Tahoma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33"/>
                </a:solidFill>
                <a:latin typeface="Tahoma"/>
              </a:rPr>
              <a:t>The Wavelet Tre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114560" y="2205000"/>
            <a:ext cx="5158800" cy="3749760"/>
            <a:chOff x="1114560" y="2205000"/>
            <a:chExt cx="5158800" cy="3749760"/>
          </a:xfrm>
        </p:grpSpPr>
        <p:sp>
          <p:nvSpPr>
            <p:cNvPr id="174" name="Line 4"/>
            <p:cNvSpPr/>
            <p:nvPr/>
          </p:nvSpPr>
          <p:spPr>
            <a:xfrm>
              <a:off x="3514680" y="2205000"/>
              <a:ext cx="143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 flipH="1">
              <a:off x="2072880" y="2205000"/>
              <a:ext cx="144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4954320" y="3284640"/>
              <a:ext cx="107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 flipH="1">
              <a:off x="3872880" y="3284640"/>
              <a:ext cx="108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3875040" y="4364280"/>
              <a:ext cx="7203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 flipH="1">
              <a:off x="3152520" y="4364280"/>
              <a:ext cx="7236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074680" y="3284640"/>
              <a:ext cx="720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H="1">
              <a:off x="1352160" y="3284640"/>
              <a:ext cx="7232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111456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AutoShape 13"/>
            <p:cNvSpPr/>
            <p:nvPr/>
          </p:nvSpPr>
          <p:spPr>
            <a:xfrm>
              <a:off x="255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2944800" y="5534280"/>
              <a:ext cx="47880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4352760" y="5534280"/>
              <a:ext cx="47916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579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AutoShape 17"/>
          <p:cNvSpPr/>
          <p:nvPr/>
        </p:nvSpPr>
        <p:spPr>
          <a:xfrm>
            <a:off x="2435400" y="1413000"/>
            <a:ext cx="2220840" cy="779400"/>
          </a:xfrm>
          <a:prstGeom prst="roundRect">
            <a:avLst>
              <a:gd name="adj" fmla="val 23060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826920" y="2637000"/>
            <a:ext cx="12970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acaa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5049720" y="2565360"/>
            <a:ext cx="10810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d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3084480" y="3500280"/>
            <a:ext cx="9604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2411280" y="1413000"/>
            <a:ext cx="2221200" cy="779400"/>
          </a:xfrm>
          <a:prstGeom prst="roundRect">
            <a:avLst>
              <a:gd name="adj" fmla="val 23060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10001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2"/>
          <p:cNvSpPr/>
          <p:nvPr/>
        </p:nvSpPr>
        <p:spPr>
          <a:xfrm>
            <a:off x="826920" y="2637000"/>
            <a:ext cx="12970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acaa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5075280" y="2565360"/>
            <a:ext cx="108108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d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059280" y="3500280"/>
            <a:ext cx="960120" cy="720720"/>
          </a:xfrm>
          <a:prstGeom prst="roundRect">
            <a:avLst>
              <a:gd name="adj" fmla="val 24889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2411280" y="1628640"/>
            <a:ext cx="2221200" cy="524160"/>
          </a:xfrm>
          <a:prstGeom prst="roundRect">
            <a:avLst>
              <a:gd name="adj" fmla="val 34241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10001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26"/>
          <p:cNvSpPr/>
          <p:nvPr/>
        </p:nvSpPr>
        <p:spPr>
          <a:xfrm>
            <a:off x="826920" y="2852640"/>
            <a:ext cx="1297080" cy="463680"/>
          </a:xfrm>
          <a:prstGeom prst="roundRect">
            <a:avLst>
              <a:gd name="adj" fmla="val 38694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27"/>
          <p:cNvSpPr/>
          <p:nvPr/>
        </p:nvSpPr>
        <p:spPr>
          <a:xfrm>
            <a:off x="5075280" y="2852640"/>
            <a:ext cx="1081080" cy="463680"/>
          </a:xfrm>
          <a:prstGeom prst="roundRect">
            <a:avLst>
              <a:gd name="adj" fmla="val 38694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28"/>
          <p:cNvSpPr/>
          <p:nvPr/>
        </p:nvSpPr>
        <p:spPr>
          <a:xfrm>
            <a:off x="3059280" y="3789360"/>
            <a:ext cx="960120" cy="401760"/>
          </a:xfrm>
          <a:prstGeom prst="roundRect">
            <a:avLst>
              <a:gd name="adj" fmla="val 44838"/>
            </a:avLst>
          </a:prstGeom>
          <a:noFill/>
          <a:ln w="360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Group 29"/>
          <p:cNvGrpSpPr/>
          <p:nvPr/>
        </p:nvGrpSpPr>
        <p:grpSpPr>
          <a:xfrm>
            <a:off x="3203640" y="6216480"/>
            <a:ext cx="5940360" cy="642600"/>
            <a:chOff x="3203640" y="6216480"/>
            <a:chExt cx="5940360" cy="642600"/>
          </a:xfrm>
        </p:grpSpPr>
        <p:sp>
          <p:nvSpPr>
            <p:cNvPr id="200" name="Rectangle 30"/>
            <p:cNvSpPr/>
            <p:nvPr/>
          </p:nvSpPr>
          <p:spPr>
            <a:xfrm>
              <a:off x="3203640" y="6237360"/>
              <a:ext cx="5940360" cy="62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31"/>
            <p:cNvSpPr/>
            <p:nvPr/>
          </p:nvSpPr>
          <p:spPr>
            <a:xfrm>
              <a:off x="3219840" y="6216480"/>
              <a:ext cx="47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3300"/>
                  </a:solidFill>
                  <a:latin typeface="Comic Sans MS"/>
                </a:rPr>
                <a:t>Fact.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Given the tree and the binary strings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we can recover the original string !!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2" name="AutoShape 33"/>
          <p:cNvSpPr/>
          <p:nvPr/>
        </p:nvSpPr>
        <p:spPr>
          <a:xfrm>
            <a:off x="4952880" y="5018040"/>
            <a:ext cx="4156200" cy="720720"/>
          </a:xfrm>
          <a:prstGeom prst="wedgeRectCallout">
            <a:avLst>
              <a:gd name="adj1" fmla="val -39504"/>
              <a:gd name="adj2" fmla="val 11802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any case, O(|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| log |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|) bi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asier Alphabetic order + Heap struc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059280" y="3500280"/>
            <a:ext cx="468000" cy="35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5076720" y="2565360"/>
            <a:ext cx="611280" cy="35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075280" y="2565360"/>
            <a:ext cx="108108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brd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2411280" y="1413000"/>
            <a:ext cx="1513080" cy="36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2411280" y="1413000"/>
            <a:ext cx="2221200" cy="779400"/>
          </a:xfrm>
          <a:prstGeom prst="roundRect">
            <a:avLst>
              <a:gd name="adj" fmla="val 23060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10001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3059280" y="3500280"/>
            <a:ext cx="96012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br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826920" y="2565360"/>
            <a:ext cx="136872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aacaa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33"/>
                </a:solidFill>
                <a:latin typeface="Tahoma"/>
              </a:rPr>
              <a:t>The Wavelet Tre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1114560" y="2205000"/>
            <a:ext cx="5158800" cy="3749760"/>
            <a:chOff x="1114560" y="2205000"/>
            <a:chExt cx="5158800" cy="3749760"/>
          </a:xfrm>
        </p:grpSpPr>
        <p:sp>
          <p:nvSpPr>
            <p:cNvPr id="213" name="Line 8"/>
            <p:cNvSpPr/>
            <p:nvPr/>
          </p:nvSpPr>
          <p:spPr>
            <a:xfrm>
              <a:off x="3514680" y="2205000"/>
              <a:ext cx="143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 flipH="1">
              <a:off x="2072880" y="2205000"/>
              <a:ext cx="144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>
              <a:off x="4954320" y="3284640"/>
              <a:ext cx="107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 flipH="1">
              <a:off x="3872880" y="3284640"/>
              <a:ext cx="108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3875040" y="4364280"/>
              <a:ext cx="7203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3152520" y="4364280"/>
              <a:ext cx="7236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2074680" y="3284640"/>
              <a:ext cx="720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1352160" y="3284640"/>
              <a:ext cx="7232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AutoShape 16"/>
            <p:cNvSpPr/>
            <p:nvPr/>
          </p:nvSpPr>
          <p:spPr>
            <a:xfrm>
              <a:off x="111456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AutoShape 17"/>
            <p:cNvSpPr/>
            <p:nvPr/>
          </p:nvSpPr>
          <p:spPr>
            <a:xfrm>
              <a:off x="255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AutoShape 18"/>
            <p:cNvSpPr/>
            <p:nvPr/>
          </p:nvSpPr>
          <p:spPr>
            <a:xfrm>
              <a:off x="2944800" y="5534280"/>
              <a:ext cx="47880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AutoShape 19"/>
            <p:cNvSpPr/>
            <p:nvPr/>
          </p:nvSpPr>
          <p:spPr>
            <a:xfrm>
              <a:off x="4352760" y="5534280"/>
              <a:ext cx="47916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AutoShape 20"/>
            <p:cNvSpPr/>
            <p:nvPr/>
          </p:nvSpPr>
          <p:spPr>
            <a:xfrm>
              <a:off x="579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708000" y="907920"/>
            <a:ext cx="2092320" cy="576000"/>
            <a:chOff x="3708000" y="907920"/>
            <a:chExt cx="2092320" cy="576000"/>
          </a:xfrm>
        </p:grpSpPr>
        <p:sp>
          <p:nvSpPr>
            <p:cNvPr id="227" name="AutoShape 22"/>
            <p:cNvSpPr/>
            <p:nvPr/>
          </p:nvSpPr>
          <p:spPr>
            <a:xfrm rot="10800000">
              <a:off x="3708000" y="1052280"/>
              <a:ext cx="792360" cy="431640"/>
            </a:xfrm>
            <a:custGeom>
              <a:avLst/>
              <a:gdLst>
                <a:gd name="textAreaLeft" fmla="*/ 0 w 792360"/>
                <a:gd name="textAreaRight" fmla="*/ 679680 w 792360"/>
                <a:gd name="textAreaTop" fmla="*/ 37620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337" y="0"/>
                  </a:moveTo>
                  <a:lnTo>
                    <a:pt x="13073" y="7200"/>
                  </a:lnTo>
                  <a:lnTo>
                    <a:pt x="16159" y="7200"/>
                  </a:lnTo>
                  <a:lnTo>
                    <a:pt x="16159" y="18852"/>
                  </a:lnTo>
                  <a:lnTo>
                    <a:pt x="0" y="18852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3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23"/>
            <p:cNvSpPr/>
            <p:nvPr/>
          </p:nvSpPr>
          <p:spPr>
            <a:xfrm>
              <a:off x="4540680" y="90792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Rank(b,8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" name="Group 24"/>
          <p:cNvGrpSpPr/>
          <p:nvPr/>
        </p:nvGrpSpPr>
        <p:grpSpPr>
          <a:xfrm>
            <a:off x="5435280" y="2060640"/>
            <a:ext cx="2092320" cy="576000"/>
            <a:chOff x="5435280" y="2060640"/>
            <a:chExt cx="2092320" cy="576000"/>
          </a:xfrm>
        </p:grpSpPr>
        <p:sp>
          <p:nvSpPr>
            <p:cNvPr id="230" name="AutoShape 25"/>
            <p:cNvSpPr/>
            <p:nvPr/>
          </p:nvSpPr>
          <p:spPr>
            <a:xfrm rot="10800000">
              <a:off x="5435280" y="2205000"/>
              <a:ext cx="792360" cy="431640"/>
            </a:xfrm>
            <a:custGeom>
              <a:avLst/>
              <a:gdLst>
                <a:gd name="textAreaLeft" fmla="*/ 0 w 792360"/>
                <a:gd name="textAreaRight" fmla="*/ 679680 w 792360"/>
                <a:gd name="textAreaTop" fmla="*/ 37620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337" y="0"/>
                  </a:moveTo>
                  <a:lnTo>
                    <a:pt x="13073" y="7200"/>
                  </a:lnTo>
                  <a:lnTo>
                    <a:pt x="16159" y="7200"/>
                  </a:lnTo>
                  <a:lnTo>
                    <a:pt x="16159" y="18852"/>
                  </a:lnTo>
                  <a:lnTo>
                    <a:pt x="0" y="18852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3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6267960" y="206064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Rank(b,3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2" name="Group 27"/>
          <p:cNvGrpSpPr/>
          <p:nvPr/>
        </p:nvGrpSpPr>
        <p:grpSpPr>
          <a:xfrm>
            <a:off x="2883240" y="2852640"/>
            <a:ext cx="1259640" cy="720360"/>
            <a:chOff x="2883240" y="2852640"/>
            <a:chExt cx="1259640" cy="720360"/>
          </a:xfrm>
        </p:grpSpPr>
        <p:sp>
          <p:nvSpPr>
            <p:cNvPr id="233" name="AutoShape 28"/>
            <p:cNvSpPr/>
            <p:nvPr/>
          </p:nvSpPr>
          <p:spPr>
            <a:xfrm rot="10800000">
              <a:off x="3347640" y="3141360"/>
              <a:ext cx="358920" cy="431640"/>
            </a:xfrm>
            <a:custGeom>
              <a:avLst/>
              <a:gdLst>
                <a:gd name="textAreaLeft" fmla="*/ 0 w 358920"/>
                <a:gd name="textAreaRight" fmla="*/ 308160 w 358920"/>
                <a:gd name="textAreaTop" fmla="*/ 37620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337" y="0"/>
                  </a:moveTo>
                  <a:lnTo>
                    <a:pt x="13073" y="7200"/>
                  </a:lnTo>
                  <a:lnTo>
                    <a:pt x="16159" y="7200"/>
                  </a:lnTo>
                  <a:lnTo>
                    <a:pt x="16159" y="18852"/>
                  </a:lnTo>
                  <a:lnTo>
                    <a:pt x="0" y="18852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3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883240" y="285264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Rank(b,2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Group 30"/>
          <p:cNvGrpSpPr/>
          <p:nvPr/>
        </p:nvGrpSpPr>
        <p:grpSpPr>
          <a:xfrm>
            <a:off x="5803200" y="333000"/>
            <a:ext cx="1947600" cy="1872000"/>
            <a:chOff x="5803200" y="333000"/>
            <a:chExt cx="1947600" cy="1872000"/>
          </a:xfrm>
        </p:grpSpPr>
        <p:sp>
          <p:nvSpPr>
            <p:cNvPr id="236" name="AutoShape 31"/>
            <p:cNvSpPr/>
            <p:nvPr/>
          </p:nvSpPr>
          <p:spPr>
            <a:xfrm rot="4160400">
              <a:off x="5580720" y="908280"/>
              <a:ext cx="1728720" cy="720720"/>
            </a:xfrm>
            <a:custGeom>
              <a:avLst/>
              <a:gdLst>
                <a:gd name="textAreaLeft" fmla="*/ 302400 w 1728720"/>
                <a:gd name="textAreaRight" fmla="*/ 1253520 w 1728720"/>
                <a:gd name="textAreaTop" fmla="*/ 96480 h 720720"/>
                <a:gd name="textAreaBottom" fmla="*/ 62424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6783840" y="691920"/>
              <a:ext cx="966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righ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symbol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" name="Group 33"/>
          <p:cNvGrpSpPr/>
          <p:nvPr/>
        </p:nvGrpSpPr>
        <p:grpSpPr>
          <a:xfrm>
            <a:off x="5161680" y="3302640"/>
            <a:ext cx="2085840" cy="1914480"/>
            <a:chOff x="5161680" y="3302640"/>
            <a:chExt cx="2085840" cy="1914480"/>
          </a:xfrm>
        </p:grpSpPr>
        <p:sp>
          <p:nvSpPr>
            <p:cNvPr id="239" name="AutoShape 34"/>
            <p:cNvSpPr/>
            <p:nvPr/>
          </p:nvSpPr>
          <p:spPr>
            <a:xfrm rot="7414800">
              <a:off x="5075280" y="3861720"/>
              <a:ext cx="1728720" cy="720360"/>
            </a:xfrm>
            <a:custGeom>
              <a:avLst/>
              <a:gdLst>
                <a:gd name="textAreaLeft" fmla="*/ 302400 w 1728720"/>
                <a:gd name="textAreaRight" fmla="*/ 1253520 w 1728720"/>
                <a:gd name="textAreaTop" fmla="*/ 96480 h 720360"/>
                <a:gd name="textAreaBottom" fmla="*/ 623880 h 72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280560" y="4149720"/>
              <a:ext cx="966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lef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symbol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" name="Group 38"/>
          <p:cNvGrpSpPr/>
          <p:nvPr/>
        </p:nvGrpSpPr>
        <p:grpSpPr>
          <a:xfrm>
            <a:off x="3132000" y="2205000"/>
            <a:ext cx="1800360" cy="3240000"/>
            <a:chOff x="3132000" y="2205000"/>
            <a:chExt cx="1800360" cy="3240000"/>
          </a:xfrm>
        </p:grpSpPr>
        <p:sp>
          <p:nvSpPr>
            <p:cNvPr id="242" name="Line 39"/>
            <p:cNvSpPr/>
            <p:nvPr/>
          </p:nvSpPr>
          <p:spPr>
            <a:xfrm>
              <a:off x="3492360" y="2205000"/>
              <a:ext cx="1440000" cy="107964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Line 40"/>
            <p:cNvSpPr/>
            <p:nvPr/>
          </p:nvSpPr>
          <p:spPr>
            <a:xfrm flipV="1">
              <a:off x="3851280" y="3284280"/>
              <a:ext cx="1081080" cy="10810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41"/>
            <p:cNvSpPr/>
            <p:nvPr/>
          </p:nvSpPr>
          <p:spPr>
            <a:xfrm flipV="1">
              <a:off x="3132000" y="4365720"/>
              <a:ext cx="719280" cy="10792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ttangolo arrotondato 1"/>
          <p:cNvSpPr/>
          <p:nvPr/>
        </p:nvSpPr>
        <p:spPr>
          <a:xfrm>
            <a:off x="4067280" y="3645000"/>
            <a:ext cx="1296720" cy="57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6c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’s bin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Group 29"/>
          <p:cNvGrpSpPr/>
          <p:nvPr/>
        </p:nvGrpSpPr>
        <p:grpSpPr>
          <a:xfrm>
            <a:off x="4308120" y="6165720"/>
            <a:ext cx="4656600" cy="503280"/>
            <a:chOff x="4308120" y="6165720"/>
            <a:chExt cx="4656600" cy="503280"/>
          </a:xfrm>
        </p:grpSpPr>
        <p:sp>
          <p:nvSpPr>
            <p:cNvPr id="247" name="AutoShape 30"/>
            <p:cNvSpPr/>
            <p:nvPr/>
          </p:nvSpPr>
          <p:spPr>
            <a:xfrm>
              <a:off x="4832280" y="6165720"/>
              <a:ext cx="4132440" cy="503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31"/>
            <p:cNvSpPr/>
            <p:nvPr/>
          </p:nvSpPr>
          <p:spPr>
            <a:xfrm>
              <a:off x="4308120" y="6237360"/>
              <a:ext cx="38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Every step can be turned to bina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3132000" y="3500280"/>
            <a:ext cx="395280" cy="36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5148360" y="2565360"/>
            <a:ext cx="539640" cy="36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2484360" y="1413000"/>
            <a:ext cx="1440000" cy="36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484360" y="1773360"/>
            <a:ext cx="1511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2411280" y="1413000"/>
            <a:ext cx="2221200" cy="779400"/>
          </a:xfrm>
          <a:prstGeom prst="roundRect">
            <a:avLst>
              <a:gd name="adj" fmla="val 23060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abracada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100010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4655160" y="1989000"/>
            <a:ext cx="138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Rank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(8)=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2774520" y="2811600"/>
            <a:ext cx="1811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Rank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Tahoma"/>
              </a:rPr>
              <a:t>0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(2)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2 – Rank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(1)=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132000" y="3860640"/>
            <a:ext cx="39528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262560" y="3141720"/>
            <a:ext cx="2584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Rank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Tahoma"/>
              </a:rPr>
              <a:t>0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(3)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3 – Rank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1" lang="it-IT" sz="1800" spc="-1" strike="noStrike">
                <a:solidFill>
                  <a:srgbClr val="009900"/>
                </a:solidFill>
                <a:latin typeface="Tahoma"/>
              </a:rPr>
              <a:t>(3)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5148360" y="2924280"/>
            <a:ext cx="57600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3059280" y="3500280"/>
            <a:ext cx="96012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br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5076720" y="2565360"/>
            <a:ext cx="108108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brd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826920" y="2565360"/>
            <a:ext cx="1368720" cy="720720"/>
          </a:xfrm>
          <a:prstGeom prst="roundRect">
            <a:avLst>
              <a:gd name="adj" fmla="val 24889"/>
            </a:avLst>
          </a:prstGeom>
          <a:noFill/>
          <a:ln w="10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 anchorCtr="1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urier New"/>
              </a:rPr>
              <a:t>aacaa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33"/>
                </a:solidFill>
                <a:latin typeface="Tahoma"/>
              </a:rPr>
              <a:t>The Wavelet Tre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1114560" y="2205000"/>
            <a:ext cx="5158800" cy="3749760"/>
            <a:chOff x="1114560" y="2205000"/>
            <a:chExt cx="5158800" cy="3749760"/>
          </a:xfrm>
        </p:grpSpPr>
        <p:sp>
          <p:nvSpPr>
            <p:cNvPr id="265" name="Line 16"/>
            <p:cNvSpPr/>
            <p:nvPr/>
          </p:nvSpPr>
          <p:spPr>
            <a:xfrm>
              <a:off x="3514680" y="2205000"/>
              <a:ext cx="143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Line 17"/>
            <p:cNvSpPr/>
            <p:nvPr/>
          </p:nvSpPr>
          <p:spPr>
            <a:xfrm flipH="1">
              <a:off x="2072880" y="2205000"/>
              <a:ext cx="144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>
              <a:off x="4954320" y="3284640"/>
              <a:ext cx="107928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9"/>
            <p:cNvSpPr/>
            <p:nvPr/>
          </p:nvSpPr>
          <p:spPr>
            <a:xfrm flipH="1">
              <a:off x="3872880" y="3284640"/>
              <a:ext cx="108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20"/>
            <p:cNvSpPr/>
            <p:nvPr/>
          </p:nvSpPr>
          <p:spPr>
            <a:xfrm>
              <a:off x="3875040" y="4364280"/>
              <a:ext cx="7203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 flipH="1">
              <a:off x="3152520" y="4364280"/>
              <a:ext cx="7236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>
              <a:off x="2074680" y="3284640"/>
              <a:ext cx="720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 flipH="1">
              <a:off x="1352160" y="3284640"/>
              <a:ext cx="7232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>
              <a:off x="111456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AutoShape 25"/>
            <p:cNvSpPr/>
            <p:nvPr/>
          </p:nvSpPr>
          <p:spPr>
            <a:xfrm>
              <a:off x="255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AutoShape 26"/>
            <p:cNvSpPr/>
            <p:nvPr/>
          </p:nvSpPr>
          <p:spPr>
            <a:xfrm>
              <a:off x="2944800" y="5534280"/>
              <a:ext cx="47880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AutoShape 27"/>
            <p:cNvSpPr/>
            <p:nvPr/>
          </p:nvSpPr>
          <p:spPr>
            <a:xfrm>
              <a:off x="4352760" y="5534280"/>
              <a:ext cx="479160" cy="42048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AutoShape 28"/>
            <p:cNvSpPr/>
            <p:nvPr/>
          </p:nvSpPr>
          <p:spPr>
            <a:xfrm>
              <a:off x="5794200" y="4424400"/>
              <a:ext cx="479160" cy="420840"/>
            </a:xfrm>
            <a:prstGeom prst="roundRect">
              <a:avLst>
                <a:gd name="adj" fmla="val 42801"/>
              </a:avLst>
            </a:prstGeom>
            <a:noFill/>
            <a:ln w="3600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29"/>
          <p:cNvGrpSpPr/>
          <p:nvPr/>
        </p:nvGrpSpPr>
        <p:grpSpPr>
          <a:xfrm>
            <a:off x="2987640" y="6165720"/>
            <a:ext cx="6152400" cy="503280"/>
            <a:chOff x="2987640" y="6165720"/>
            <a:chExt cx="6152400" cy="503280"/>
          </a:xfrm>
        </p:grpSpPr>
        <p:sp>
          <p:nvSpPr>
            <p:cNvPr id="279" name="AutoShape 30"/>
            <p:cNvSpPr/>
            <p:nvPr/>
          </p:nvSpPr>
          <p:spPr>
            <a:xfrm>
              <a:off x="2987640" y="6165720"/>
              <a:ext cx="5976720" cy="503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3017160" y="6237360"/>
              <a:ext cx="612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Generalised R&amp;S implemented with log |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| binary R&amp;S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3708000" y="907920"/>
            <a:ext cx="2092320" cy="576000"/>
            <a:chOff x="3708000" y="907920"/>
            <a:chExt cx="2092320" cy="576000"/>
          </a:xfrm>
        </p:grpSpPr>
        <p:sp>
          <p:nvSpPr>
            <p:cNvPr id="282" name="AutoShape 33"/>
            <p:cNvSpPr/>
            <p:nvPr/>
          </p:nvSpPr>
          <p:spPr>
            <a:xfrm rot="10800000">
              <a:off x="3708000" y="1052280"/>
              <a:ext cx="792360" cy="431640"/>
            </a:xfrm>
            <a:custGeom>
              <a:avLst/>
              <a:gdLst>
                <a:gd name="textAreaLeft" fmla="*/ 0 w 792360"/>
                <a:gd name="textAreaRight" fmla="*/ 679680 w 792360"/>
                <a:gd name="textAreaTop" fmla="*/ 37620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337" y="0"/>
                  </a:moveTo>
                  <a:lnTo>
                    <a:pt x="13073" y="7200"/>
                  </a:lnTo>
                  <a:lnTo>
                    <a:pt x="16159" y="7200"/>
                  </a:lnTo>
                  <a:lnTo>
                    <a:pt x="16159" y="18852"/>
                  </a:lnTo>
                  <a:lnTo>
                    <a:pt x="0" y="18852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3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4540680" y="90792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3300"/>
                  </a:solidFill>
                  <a:latin typeface="Tahoma"/>
                </a:rPr>
                <a:t>Rank(b,8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" name="Group 35"/>
          <p:cNvGrpSpPr/>
          <p:nvPr/>
        </p:nvGrpSpPr>
        <p:grpSpPr>
          <a:xfrm>
            <a:off x="5803200" y="1341360"/>
            <a:ext cx="2243880" cy="1872000"/>
            <a:chOff x="5803200" y="1341360"/>
            <a:chExt cx="2243880" cy="1872000"/>
          </a:xfrm>
        </p:grpSpPr>
        <p:sp>
          <p:nvSpPr>
            <p:cNvPr id="285" name="AutoShape 36"/>
            <p:cNvSpPr/>
            <p:nvPr/>
          </p:nvSpPr>
          <p:spPr>
            <a:xfrm rot="4160400">
              <a:off x="5580720" y="1916640"/>
              <a:ext cx="1728720" cy="720720"/>
            </a:xfrm>
            <a:custGeom>
              <a:avLst/>
              <a:gdLst>
                <a:gd name="textAreaLeft" fmla="*/ 302400 w 1728720"/>
                <a:gd name="textAreaRight" fmla="*/ 1253520 w 1728720"/>
                <a:gd name="textAreaTop" fmla="*/ 96480 h 720720"/>
                <a:gd name="textAreaBottom" fmla="*/ 62424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Text Box 37"/>
            <p:cNvSpPr/>
            <p:nvPr/>
          </p:nvSpPr>
          <p:spPr>
            <a:xfrm>
              <a:off x="6782760" y="1700280"/>
              <a:ext cx="12643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Right m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Rank</a:t>
              </a:r>
              <a:r>
                <a:rPr b="0" lang="it-IT" sz="1600" spc="-1" strike="noStrike" baseline="-25000">
                  <a:solidFill>
                    <a:srgbClr val="339933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7" name="Group 38"/>
          <p:cNvGrpSpPr/>
          <p:nvPr/>
        </p:nvGrpSpPr>
        <p:grpSpPr>
          <a:xfrm>
            <a:off x="4906800" y="3462120"/>
            <a:ext cx="2598480" cy="1804680"/>
            <a:chOff x="4906800" y="3462120"/>
            <a:chExt cx="2598480" cy="1804680"/>
          </a:xfrm>
        </p:grpSpPr>
        <p:sp>
          <p:nvSpPr>
            <p:cNvPr id="288" name="AutoShape 39"/>
            <p:cNvSpPr/>
            <p:nvPr/>
          </p:nvSpPr>
          <p:spPr>
            <a:xfrm rot="7689000">
              <a:off x="4859640" y="4003920"/>
              <a:ext cx="1728720" cy="720720"/>
            </a:xfrm>
            <a:custGeom>
              <a:avLst/>
              <a:gdLst>
                <a:gd name="textAreaLeft" fmla="*/ 302400 w 1728720"/>
                <a:gd name="textAreaRight" fmla="*/ 1253520 w 1728720"/>
                <a:gd name="textAreaTop" fmla="*/ 96480 h 720720"/>
                <a:gd name="textAreaBottom" fmla="*/ 62424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Text Box 40"/>
            <p:cNvSpPr/>
            <p:nvPr/>
          </p:nvSpPr>
          <p:spPr>
            <a:xfrm>
              <a:off x="6378120" y="4005000"/>
              <a:ext cx="1127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Left m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Rank</a:t>
              </a:r>
              <a:r>
                <a:rPr b="0" lang="it-IT" sz="1600" spc="-1" strike="noStrike" baseline="-25000">
                  <a:solidFill>
                    <a:srgbClr val="339933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" name="Group 41"/>
          <p:cNvGrpSpPr/>
          <p:nvPr/>
        </p:nvGrpSpPr>
        <p:grpSpPr>
          <a:xfrm>
            <a:off x="3132000" y="2205000"/>
            <a:ext cx="1800360" cy="3240000"/>
            <a:chOff x="3132000" y="2205000"/>
            <a:chExt cx="1800360" cy="3240000"/>
          </a:xfrm>
        </p:grpSpPr>
        <p:sp>
          <p:nvSpPr>
            <p:cNvPr id="291" name="Line 42"/>
            <p:cNvSpPr/>
            <p:nvPr/>
          </p:nvSpPr>
          <p:spPr>
            <a:xfrm>
              <a:off x="3492360" y="2205000"/>
              <a:ext cx="1440000" cy="1079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43"/>
            <p:cNvSpPr/>
            <p:nvPr/>
          </p:nvSpPr>
          <p:spPr>
            <a:xfrm flipV="1">
              <a:off x="3851280" y="3284280"/>
              <a:ext cx="1081080" cy="10810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44"/>
            <p:cNvSpPr/>
            <p:nvPr/>
          </p:nvSpPr>
          <p:spPr>
            <a:xfrm flipV="1">
              <a:off x="3132000" y="4365720"/>
              <a:ext cx="719280" cy="1079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" name="Group 45"/>
          <p:cNvGrpSpPr/>
          <p:nvPr/>
        </p:nvGrpSpPr>
        <p:grpSpPr>
          <a:xfrm>
            <a:off x="3394080" y="4543200"/>
            <a:ext cx="2598480" cy="1804680"/>
            <a:chOff x="3394080" y="4543200"/>
            <a:chExt cx="2598480" cy="1804680"/>
          </a:xfrm>
        </p:grpSpPr>
        <p:sp>
          <p:nvSpPr>
            <p:cNvPr id="295" name="AutoShape 46"/>
            <p:cNvSpPr/>
            <p:nvPr/>
          </p:nvSpPr>
          <p:spPr>
            <a:xfrm rot="7689000">
              <a:off x="3346920" y="5085000"/>
              <a:ext cx="1728720" cy="720720"/>
            </a:xfrm>
            <a:custGeom>
              <a:avLst/>
              <a:gdLst>
                <a:gd name="textAreaLeft" fmla="*/ 302400 w 1728720"/>
                <a:gd name="textAreaRight" fmla="*/ 1253520 w 1728720"/>
                <a:gd name="textAreaTop" fmla="*/ 96480 h 720720"/>
                <a:gd name="textAreaBottom" fmla="*/ 62424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Text Box 47"/>
            <p:cNvSpPr/>
            <p:nvPr/>
          </p:nvSpPr>
          <p:spPr>
            <a:xfrm>
              <a:off x="4865400" y="5086080"/>
              <a:ext cx="1127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Left m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9933"/>
                  </a:solidFill>
                  <a:latin typeface="Comic Sans MS"/>
                </a:rPr>
                <a:t>Rank</a:t>
              </a:r>
              <a:r>
                <a:rPr b="0" lang="it-IT" sz="1600" spc="-1" strike="noStrike" baseline="-25000">
                  <a:solidFill>
                    <a:srgbClr val="339933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" name="AutoShape 48"/>
          <p:cNvSpPr/>
          <p:nvPr/>
        </p:nvSpPr>
        <p:spPr>
          <a:xfrm>
            <a:off x="6877080" y="189000"/>
            <a:ext cx="2016000" cy="1439640"/>
          </a:xfrm>
          <a:custGeom>
            <a:avLst/>
            <a:gdLst>
              <a:gd name="textAreaLeft" fmla="*/ 383760 w 2016000"/>
              <a:gd name="textAreaRight" fmla="*/ 1632240 w 2016000"/>
              <a:gd name="textAreaTop" fmla="*/ 273960 h 1439640"/>
              <a:gd name="textAreaBottom" fmla="*/ 116568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80" y="11624"/>
                </a:lnTo>
                <a:lnTo>
                  <a:pt x="198" y="12861"/>
                </a:lnTo>
                <a:lnTo>
                  <a:pt x="1710" y="13406"/>
                </a:lnTo>
                <a:lnTo>
                  <a:pt x="786" y="14846"/>
                </a:lnTo>
                <a:lnTo>
                  <a:pt x="2451" y="15239"/>
                </a:lnTo>
                <a:lnTo>
                  <a:pt x="1742" y="16682"/>
                </a:lnTo>
                <a:lnTo>
                  <a:pt x="3451" y="16751"/>
                </a:lnTo>
                <a:lnTo>
                  <a:pt x="3163" y="18437"/>
                </a:lnTo>
                <a:lnTo>
                  <a:pt x="4722" y="18044"/>
                </a:lnTo>
                <a:lnTo>
                  <a:pt x="4761" y="19754"/>
                </a:lnTo>
                <a:lnTo>
                  <a:pt x="6216" y="19070"/>
                </a:lnTo>
                <a:lnTo>
                  <a:pt x="6580" y="20741"/>
                </a:lnTo>
                <a:lnTo>
                  <a:pt x="8035" y="19843"/>
                </a:lnTo>
                <a:lnTo>
                  <a:pt x="8555" y="21364"/>
                </a:lnTo>
                <a:lnTo>
                  <a:pt x="9812" y="20204"/>
                </a:lnTo>
                <a:lnTo>
                  <a:pt x="10800" y="21600"/>
                </a:lnTo>
                <a:lnTo>
                  <a:pt x="11624" y="20220"/>
                </a:lnTo>
                <a:lnTo>
                  <a:pt x="12861" y="21402"/>
                </a:lnTo>
                <a:lnTo>
                  <a:pt x="13406" y="19890"/>
                </a:lnTo>
                <a:lnTo>
                  <a:pt x="14846" y="20814"/>
                </a:lnTo>
                <a:lnTo>
                  <a:pt x="15239" y="19149"/>
                </a:lnTo>
                <a:lnTo>
                  <a:pt x="16682" y="19858"/>
                </a:lnTo>
                <a:lnTo>
                  <a:pt x="16751" y="18149"/>
                </a:lnTo>
                <a:lnTo>
                  <a:pt x="18437" y="18437"/>
                </a:lnTo>
                <a:lnTo>
                  <a:pt x="18044" y="16878"/>
                </a:lnTo>
                <a:lnTo>
                  <a:pt x="19754" y="16839"/>
                </a:lnTo>
                <a:lnTo>
                  <a:pt x="19070" y="15384"/>
                </a:lnTo>
                <a:lnTo>
                  <a:pt x="20741" y="15020"/>
                </a:lnTo>
                <a:lnTo>
                  <a:pt x="19843" y="13565"/>
                </a:lnTo>
                <a:lnTo>
                  <a:pt x="21364" y="13045"/>
                </a:lnTo>
                <a:lnTo>
                  <a:pt x="20204" y="11788"/>
                </a:lnTo>
                <a:lnTo>
                  <a:pt x="21600" y="10800"/>
                </a:lnTo>
                <a:lnTo>
                  <a:pt x="20220" y="9976"/>
                </a:lnTo>
                <a:lnTo>
                  <a:pt x="21402" y="8739"/>
                </a:lnTo>
                <a:lnTo>
                  <a:pt x="19890" y="8194"/>
                </a:lnTo>
                <a:lnTo>
                  <a:pt x="20814" y="6754"/>
                </a:lnTo>
                <a:lnTo>
                  <a:pt x="19149" y="6361"/>
                </a:lnTo>
                <a:lnTo>
                  <a:pt x="19858" y="4918"/>
                </a:lnTo>
                <a:lnTo>
                  <a:pt x="18149" y="4849"/>
                </a:lnTo>
                <a:lnTo>
                  <a:pt x="18437" y="3163"/>
                </a:lnTo>
                <a:lnTo>
                  <a:pt x="16878" y="3556"/>
                </a:lnTo>
                <a:lnTo>
                  <a:pt x="16839" y="1846"/>
                </a:lnTo>
                <a:lnTo>
                  <a:pt x="15384" y="2530"/>
                </a:lnTo>
                <a:lnTo>
                  <a:pt x="15020" y="859"/>
                </a:lnTo>
                <a:lnTo>
                  <a:pt x="13565" y="1757"/>
                </a:lnTo>
                <a:lnTo>
                  <a:pt x="13045" y="236"/>
                </a:lnTo>
                <a:lnTo>
                  <a:pt x="11788" y="1396"/>
                </a:lnTo>
                <a:lnTo>
                  <a:pt x="10800" y="0"/>
                </a:lnTo>
                <a:lnTo>
                  <a:pt x="9976" y="1380"/>
                </a:lnTo>
                <a:lnTo>
                  <a:pt x="8739" y="198"/>
                </a:lnTo>
                <a:lnTo>
                  <a:pt x="8194" y="1710"/>
                </a:lnTo>
                <a:lnTo>
                  <a:pt x="6754" y="786"/>
                </a:lnTo>
                <a:lnTo>
                  <a:pt x="6361" y="2451"/>
                </a:lnTo>
                <a:lnTo>
                  <a:pt x="4918" y="1742"/>
                </a:lnTo>
                <a:lnTo>
                  <a:pt x="4849" y="3451"/>
                </a:lnTo>
                <a:lnTo>
                  <a:pt x="3163" y="3163"/>
                </a:lnTo>
                <a:lnTo>
                  <a:pt x="3556" y="4722"/>
                </a:lnTo>
                <a:lnTo>
                  <a:pt x="1846" y="4761"/>
                </a:lnTo>
                <a:lnTo>
                  <a:pt x="2530" y="6216"/>
                </a:lnTo>
                <a:lnTo>
                  <a:pt x="859" y="6580"/>
                </a:lnTo>
                <a:lnTo>
                  <a:pt x="1757" y="8035"/>
                </a:lnTo>
                <a:lnTo>
                  <a:pt x="236" y="8555"/>
                </a:lnTo>
                <a:lnTo>
                  <a:pt x="1396" y="981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elect 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imi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olo Ferragina, Università di Pis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280" y="1143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Comic Sans MS"/>
              </a:rPr>
              <a:t>Representing Trees</a:t>
            </a:r>
            <a:endParaRPr b="0" lang="en-US" sz="4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aolo Fe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artimento di Informatica, Università di 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3:57:26Z</dcterms:created>
  <dc:creator>Paolo Ferragina</dc:creator>
  <dc:description/>
  <dc:language>en-US</dc:language>
  <cp:lastModifiedBy>Paolo Ferragina</cp:lastModifiedBy>
  <dcterms:modified xsi:type="dcterms:W3CDTF">2014-11-11T14:42:33Z</dcterms:modified>
  <cp:revision>2393</cp:revision>
  <dc:subject/>
  <dc:title>Lecture Helsinki</dc:title>
</cp:coreProperties>
</file>